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236AD-7F37-492D-98FD-38E9815E44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E0056-7C3A-4C37-B863-E6BBDFBD49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60C0C-FE4C-44C3-81B0-A9EB634674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115A7-BB79-42BE-9AFC-5E1DAA0167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866AD-7E1C-4D09-8A16-BD1F199E9F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F53DA-3FF1-47D7-B6D9-4E7BC1F61A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79EB5-8298-4618-9475-406BA63179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08DF0-7D12-4C3C-BCD9-D98A532541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2D978-D71E-458B-B42E-71814C0FC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AD2D7-E2CB-4D0D-BDC3-EC7E682E65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4D904-D2B2-4D7F-AEC6-5A091F76C9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E4EA1-CEAD-4A58-99FE-EAEC2BAC1A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270E-D35E-4E5A-A8EC-784338AC9F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dugains.ca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F6AB-1768-49D1-ACB4-5587B1CF8B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7720" y="26665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800" spc="-1" strike="noStrike">
                <a:solidFill>
                  <a:srgbClr val="000000"/>
                </a:solidFill>
                <a:latin typeface="Arial"/>
              </a:rPr>
              <a:t>Pursuing Broader Persp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Proportional Reaso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- Guiding Questions to Discus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do you see as the important differences between the curriculum expectation and the learning go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y is it important to make this distin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93B1-C7A3-42F2-8B2D-8DB266E7B0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7126-DCF9-49E6-B011-2921797589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uiding Questions to Discus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ould you always state the learning goal at the beginning of the lesson?  Why/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do you consider to be the characteristics of a good consolidating ques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50E9-2E1E-4FA7-980C-5BB26765A32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000C-0AD8-456D-B647-23B4BABEFD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erspective Passport / Math Ma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dividually reflect on your learning and next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rd in your Passport or on your Math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E1A3-9A04-47D8-B52A-1241416079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9626-2038-4626-B13E-227E0BB6A1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the importance of clearly identify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we want students to know (learning go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e will know that they learned it (consolidating ques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designing lesson frameworks by starting with learning goals and consolidating question(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lore proportional reasoning concepts in curriculum documen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A816-C97D-4E95-B54C-122621F0DD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30F3-4641-4CCE-A845-5D90346A23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ad the article “The House” individu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a highlighter to highlight </a:t>
            </a:r>
            <a:r>
              <a:rPr b="1" i="1" lang="en-CA" sz="24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acilitators will visit each table before you begin reading to provide further instru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8BC3-DA2D-4B76-B173-2BAE8AA3C1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571C-9DF8-4DFF-B989-9996810E01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dividually choose what you consider to be the TOP 3 key features that you have highligh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ound Robin – each person will share their TOP 3 with a 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just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me to consensus on your table’s TOP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e prepared to share and 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just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6C4B-740F-4A78-A201-4D330E34D9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D258-7AF8-4513-9985-90AED2B6F5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hare the ‘lens’ that your table was assigned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hare your TOP 3 key features of the house with just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ow does this activity relate to building Learning Goals and Consolidating 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B92D-FC8C-448A-8F22-2C18D9F42A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AB5E-4729-4A09-9B6F-7A8255D873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Big Ideas and Proportional Reasoning K-12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resource on EduGAINS provides us with samples of how to create and connect Big Ideas, Curriculum Expectations, Learning Goals and Consolidation Questions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dugains.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CA" sz="2000" spc="-1" strike="noStrike">
                <a:solidFill>
                  <a:srgbClr val="000000"/>
                </a:solidFill>
                <a:latin typeface="Arial"/>
              </a:rPr>
              <a:t>Math GAINS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1" i="1" lang="en-CA" sz="2000" spc="-1" strike="noStrike">
                <a:solidFill>
                  <a:srgbClr val="0000ff"/>
                </a:solidFill>
                <a:latin typeface="Arial"/>
                <a:ea typeface="Arial"/>
              </a:rPr>
              <a:t>Continuum and Connections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→ </a:t>
            </a:r>
            <a:r>
              <a:rPr b="1" i="1" lang="en-CA" sz="2000" spc="-1" strike="noStrike">
                <a:solidFill>
                  <a:srgbClr val="ff0000"/>
                </a:solidFill>
                <a:latin typeface="Arial"/>
                <a:ea typeface="Arial"/>
              </a:rPr>
              <a:t>Big Ideas and Proportional Reasoning K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F22D-A597-401F-9433-C0AB11CB92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A9AF-9DFF-4126-BFDF-44EA94CB97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3886200"/>
            <a:ext cx="3733920" cy="990720"/>
          </a:xfrm>
          <a:prstGeom prst="cloudCallout">
            <a:avLst>
              <a:gd name="adj1" fmla="val -32907"/>
              <a:gd name="adj2" fmla="val 684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et’s take a look togeth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088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2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ve to the corner of the room that we have designated for grade 9, 10, 11 or 12 and find someone within your corner who wishes to work on a common cou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et materials you will need: Chart Paper, Markers, Curriculum Document (hardcopy or online), access to EduG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nd a space to work.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B00A-0DCA-4259-ACA8-60F6153E34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98CE-5FCF-4CC6-8CF9-4AEE828C5D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304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20 minutes </a:t>
            </a: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ACTIVITY: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You are designing the framework for a les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ind an expectation (or cluster of expectations) that addresses proportional reasoning in the course you have cho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n the chart paper, reco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course code and the curriculum expectation(s) cho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learning goal you would have for your stu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consolidating question(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ink of the broader context and include a statement related to the Big Idea/Enduring Understanding that is addressed by the curriculum expectation(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ost your chart paper when you are d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CEE4-3C73-4737-8CDB-F27AD48C61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9471-2FFE-403F-B242-A8B405202A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533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allery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iew one another’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licitly look for the 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connection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between the curriculum expectation, learning goal and consolidating question(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e sure to ask the ‘artists’ to explain their thinking if you hav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61E6-4F80-442E-805E-B9F406C27D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17DB-DFCC-4864-AFDC-A09041597AA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Cheryl</cp:lastModifiedBy>
  <dcterms:modified xsi:type="dcterms:W3CDTF">2011-08-06T16:01:52Z</dcterms:modified>
  <cp:revision>38</cp:revision>
  <dc:subject/>
  <dc:title>&lt;Title&gt;</dc:title>
</cp:coreProperties>
</file>